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5.jpeg" ContentType="image/jpeg"/>
  <Override PartName="/ppt/media/image20.wmf" ContentType="image/x-wmf"/>
  <Override PartName="/ppt/media/image4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15.jpeg" ContentType="image/jpeg"/>
  <Override PartName="/ppt/media/image13.png" ContentType="image/png"/>
  <Override PartName="/ppt/media/image16.png" ContentType="image/png"/>
  <Override PartName="/ppt/media/chimes.wav" ContentType="audio/x-wav"/>
  <Override PartName="/ppt/media/image1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E550-677F-409D-A16B-19C59E1E7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1405-979F-43FA-8C7F-22AB85EC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63D6-7F8A-4C8E-A6CF-6B7E879AB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B9DB-6298-4E9A-AE1B-BBE035FBD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E53D-1AC4-48CA-9EC5-0A2646AD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8A8E-1DD3-4C26-8C34-DF40C679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0A2D-8BCC-49EF-85FC-48558DB2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F29C-ACD7-4B33-9FBA-3EF71559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7302-D4AF-4BEC-B8B2-0FD1A592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7CE3-4B50-46CD-A0A5-2CC9B6D6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8CB8-2A90-41B6-99BC-EA2109A8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EA6E-594E-4305-81B0-D5DC4E13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E36E-9AEA-4D4B-9FDE-0C8964B310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81080" y="2362320"/>
            <a:ext cx="57913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Module 4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Unit 1 May I'll be a writer.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62120" y="838080"/>
            <a:ext cx="7315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外研版（一起）三年级英语下册课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523880" y="30492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819520" y="4952880"/>
            <a:ext cx="40384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footballer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2590560" cy="1941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581280" y="380880"/>
            <a:ext cx="2159280" cy="2210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629400" y="228600"/>
            <a:ext cx="1727280" cy="2590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3821040" y="4114800"/>
            <a:ext cx="1970280" cy="2286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2133720" y="2257560"/>
            <a:ext cx="3352680" cy="2619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304920" y="3886200"/>
            <a:ext cx="1743120" cy="2438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95280" y="2057400"/>
            <a:ext cx="350532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in the future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324480" y="2057400"/>
            <a:ext cx="2057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在未来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 rot="5400000">
            <a:off x="-1008360" y="2600280"/>
            <a:ext cx="4753080" cy="136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幸运大转盘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0"/>
              </a:gra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"/>
          <p:cNvSpPr/>
          <p:nvPr/>
        </p:nvSpPr>
        <p:spPr>
          <a:xfrm>
            <a:off x="5796000" y="836640"/>
            <a:ext cx="1440" cy="272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549360"/>
            <a:ext cx="6337080" cy="5904000"/>
          </a:xfrm>
          <a:prstGeom prst="donut">
            <a:avLst>
              <a:gd name="adj" fmla="val 4351"/>
            </a:avLst>
          </a:prstGeom>
          <a:solidFill>
            <a:srgbClr val="cc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87640" y="2708280"/>
            <a:ext cx="2774880" cy="85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140360" y="3551400"/>
            <a:ext cx="1650960" cy="225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96000" y="3559320"/>
            <a:ext cx="1574640" cy="21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796000" y="2781360"/>
            <a:ext cx="2701800" cy="7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771640" y="1501920"/>
            <a:ext cx="6048360" cy="5362560"/>
            <a:chOff x="2771640" y="1501920"/>
            <a:chExt cx="6048360" cy="5362560"/>
          </a:xfrm>
        </p:grpSpPr>
        <p:sp>
          <p:nvSpPr>
            <p:cNvPr id="91" name=""/>
            <p:cNvSpPr/>
            <p:nvPr/>
          </p:nvSpPr>
          <p:spPr>
            <a:xfrm>
              <a:off x="2987640" y="1592280"/>
              <a:ext cx="338292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Monotype Corsiva"/>
                </a:rPr>
                <a:t>film star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71640" y="3284640"/>
              <a:ext cx="27352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Monotype Corsiva"/>
                </a:rPr>
                <a:t>writer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357800" y="4941720"/>
              <a:ext cx="3382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000000"/>
                  </a:solidFill>
                  <a:latin typeface="Monotype Corsiva"/>
                </a:rPr>
                <a:t>footballer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942160" y="3213000"/>
              <a:ext cx="28778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Monotype Corsiva"/>
                </a:rPr>
                <a:t>policeman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940360" y="1501920"/>
              <a:ext cx="27352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Monotype Corsiva"/>
                </a:rPr>
                <a:t>future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5651640" y="2347920"/>
            <a:ext cx="288720" cy="2376360"/>
          </a:xfrm>
          <a:prstGeom prst="upArrow">
            <a:avLst>
              <a:gd name="adj1" fmla="val 67037"/>
              <a:gd name="adj2" fmla="val 205614"/>
            </a:avLst>
          </a:prstGeom>
          <a:solidFill>
            <a:srgbClr val="f9ea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9200000">
                                      <p:cBhvr>
                                        <p:cTn id="11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796000" y="836640"/>
            <a:ext cx="1440" cy="272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56000" y="549360"/>
            <a:ext cx="6337080" cy="5904000"/>
          </a:xfrm>
          <a:prstGeom prst="donut">
            <a:avLst>
              <a:gd name="adj" fmla="val 4351"/>
            </a:avLst>
          </a:prstGeom>
          <a:solidFill>
            <a:srgbClr val="cc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87640" y="2708280"/>
            <a:ext cx="2774880" cy="85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140360" y="3551400"/>
            <a:ext cx="1650960" cy="225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96000" y="3559320"/>
            <a:ext cx="1574640" cy="21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796000" y="2781360"/>
            <a:ext cx="2701800" cy="7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 rot="5400000">
            <a:off x="-1008360" y="2600280"/>
            <a:ext cx="4753080" cy="136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幸运大转盘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0"/>
              </a:gra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771640" y="1501920"/>
            <a:ext cx="6048360" cy="5362560"/>
            <a:chOff x="2771640" y="1501920"/>
            <a:chExt cx="6048360" cy="5362560"/>
          </a:xfrm>
        </p:grpSpPr>
        <p:sp>
          <p:nvSpPr>
            <p:cNvPr id="105" name=""/>
            <p:cNvSpPr/>
            <p:nvPr/>
          </p:nvSpPr>
          <p:spPr>
            <a:xfrm>
              <a:off x="2987640" y="1592280"/>
              <a:ext cx="338292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Monotype Corsiva"/>
                </a:rPr>
                <a:t>film star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71640" y="3284640"/>
              <a:ext cx="27352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Monotype Corsiva"/>
                </a:rPr>
                <a:t>writer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57800" y="4941720"/>
              <a:ext cx="3382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000000"/>
                  </a:solidFill>
                  <a:latin typeface="Monotype Corsiva"/>
                </a:rPr>
                <a:t>footballer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42160" y="3213000"/>
              <a:ext cx="28778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Monotype Corsiva"/>
                </a:rPr>
                <a:t>policeman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40360" y="1501920"/>
              <a:ext cx="27352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Monotype Corsiva"/>
                </a:rPr>
                <a:t>future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 rot="14160000">
            <a:off x="5572800" y="2170440"/>
            <a:ext cx="43812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2100000">
                                      <p:cBhvr>
                                        <p:cTn id="12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796000" y="836640"/>
            <a:ext cx="1440" cy="272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56000" y="549360"/>
            <a:ext cx="6337080" cy="5904000"/>
          </a:xfrm>
          <a:prstGeom prst="donut">
            <a:avLst>
              <a:gd name="adj" fmla="val 4351"/>
            </a:avLst>
          </a:prstGeom>
          <a:solidFill>
            <a:srgbClr val="cc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87640" y="2708280"/>
            <a:ext cx="2774880" cy="85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140360" y="3551400"/>
            <a:ext cx="1650960" cy="225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96000" y="3559320"/>
            <a:ext cx="1574640" cy="21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796000" y="2781360"/>
            <a:ext cx="2701800" cy="7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 rot="5400000">
            <a:off x="-1008360" y="2600280"/>
            <a:ext cx="4753080" cy="136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幸运大转盘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0"/>
              </a:gra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771640" y="1501920"/>
            <a:ext cx="6048360" cy="5362560"/>
            <a:chOff x="2771640" y="1501920"/>
            <a:chExt cx="6048360" cy="5362560"/>
          </a:xfrm>
        </p:grpSpPr>
        <p:sp>
          <p:nvSpPr>
            <p:cNvPr id="119" name=""/>
            <p:cNvSpPr/>
            <p:nvPr/>
          </p:nvSpPr>
          <p:spPr>
            <a:xfrm>
              <a:off x="2987640" y="1592280"/>
              <a:ext cx="338292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Monotype Corsiva"/>
                </a:rPr>
                <a:t>film star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71640" y="3284640"/>
              <a:ext cx="27352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Monotype Corsiva"/>
                </a:rPr>
                <a:t>writer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357800" y="4941720"/>
              <a:ext cx="3382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000000"/>
                  </a:solidFill>
                  <a:latin typeface="Monotype Corsiva"/>
                </a:rPr>
                <a:t>footballer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42160" y="3213000"/>
              <a:ext cx="28778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Monotype Corsiva"/>
                </a:rPr>
                <a:t>policeman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40360" y="1501920"/>
              <a:ext cx="27352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Monotype Corsiva"/>
                </a:rPr>
                <a:t>future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 rot="11076000">
            <a:off x="5517720" y="2203200"/>
            <a:ext cx="4780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3920000">
                                      <p:cBhvr>
                                        <p:cTn id="12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796000" y="836640"/>
            <a:ext cx="1440" cy="272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56000" y="549360"/>
            <a:ext cx="6337080" cy="5904000"/>
          </a:xfrm>
          <a:prstGeom prst="donut">
            <a:avLst>
              <a:gd name="adj" fmla="val 4351"/>
            </a:avLst>
          </a:prstGeom>
          <a:solidFill>
            <a:srgbClr val="cc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87640" y="2708280"/>
            <a:ext cx="2774880" cy="85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140360" y="3551400"/>
            <a:ext cx="1650960" cy="225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6000" y="3559320"/>
            <a:ext cx="1574640" cy="21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796000" y="2781360"/>
            <a:ext cx="2701800" cy="7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 rot="5400000">
            <a:off x="-1008360" y="2600280"/>
            <a:ext cx="4753080" cy="136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幸运大转盘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0"/>
              </a:gra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771640" y="1501920"/>
            <a:ext cx="6048360" cy="5362560"/>
            <a:chOff x="2771640" y="1501920"/>
            <a:chExt cx="6048360" cy="5362560"/>
          </a:xfrm>
        </p:grpSpPr>
        <p:sp>
          <p:nvSpPr>
            <p:cNvPr id="133" name=""/>
            <p:cNvSpPr/>
            <p:nvPr/>
          </p:nvSpPr>
          <p:spPr>
            <a:xfrm>
              <a:off x="2987640" y="1592280"/>
              <a:ext cx="338292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Monotype Corsiva"/>
                </a:rPr>
                <a:t>film star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71640" y="3284640"/>
              <a:ext cx="27352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Monotype Corsiva"/>
                </a:rPr>
                <a:t>writer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57800" y="4941720"/>
              <a:ext cx="3382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000000"/>
                  </a:solidFill>
                  <a:latin typeface="Monotype Corsiva"/>
                </a:rPr>
                <a:t>footballer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42160" y="3213000"/>
              <a:ext cx="28778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Monotype Corsiva"/>
                </a:rPr>
                <a:t>policeman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40360" y="1501920"/>
              <a:ext cx="27352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Monotype Corsiva"/>
                </a:rPr>
                <a:t>future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 rot="20122200">
            <a:off x="5619600" y="2269800"/>
            <a:ext cx="46836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3500000">
                                      <p:cBhvr>
                                        <p:cTn id="1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796000" y="836640"/>
            <a:ext cx="1440" cy="272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549360"/>
            <a:ext cx="6337080" cy="5904000"/>
          </a:xfrm>
          <a:prstGeom prst="donut">
            <a:avLst>
              <a:gd name="adj" fmla="val 4351"/>
            </a:avLst>
          </a:prstGeom>
          <a:solidFill>
            <a:srgbClr val="cc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87640" y="2708280"/>
            <a:ext cx="2774880" cy="85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140360" y="3551400"/>
            <a:ext cx="1650960" cy="225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96000" y="3559320"/>
            <a:ext cx="1574640" cy="21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796000" y="2781360"/>
            <a:ext cx="2701800" cy="7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 rot="5400000">
            <a:off x="-1008360" y="2600280"/>
            <a:ext cx="4753080" cy="136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幸运大转盘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0"/>
              </a:gra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771640" y="1501920"/>
            <a:ext cx="6048360" cy="5362560"/>
            <a:chOff x="2771640" y="1501920"/>
            <a:chExt cx="6048360" cy="5362560"/>
          </a:xfrm>
        </p:grpSpPr>
        <p:sp>
          <p:nvSpPr>
            <p:cNvPr id="147" name=""/>
            <p:cNvSpPr/>
            <p:nvPr/>
          </p:nvSpPr>
          <p:spPr>
            <a:xfrm>
              <a:off x="2987640" y="1592280"/>
              <a:ext cx="338292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Monotype Corsiva"/>
                </a:rPr>
                <a:t>film star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71640" y="3284640"/>
              <a:ext cx="27352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Monotype Corsiva"/>
                </a:rPr>
                <a:t>writer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57800" y="4941720"/>
              <a:ext cx="3382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000000"/>
                  </a:solidFill>
                  <a:latin typeface="Monotype Corsiva"/>
                </a:rPr>
                <a:t>footballer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42160" y="3213000"/>
              <a:ext cx="28778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Monotype Corsiva"/>
                </a:rPr>
                <a:t>policeman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40360" y="1501920"/>
              <a:ext cx="27352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Monotype Corsiva"/>
                </a:rPr>
                <a:t>future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 rot="7563000">
            <a:off x="5531040" y="2265840"/>
            <a:ext cx="47304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80400000">
                                      <p:cBhvr>
                                        <p:cTn id="13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211640" y="285264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Myriad Web"/>
              </a:rPr>
              <a:t>He’s a </a:t>
            </a:r>
            <a:r>
              <a:rPr b="1" lang="en-US" sz="4400" spc="-1" strike="noStrike" u="sng">
                <a:solidFill>
                  <a:srgbClr val="cc00ff"/>
                </a:solidFill>
                <a:uFillTx/>
                <a:latin typeface="Myriad Web"/>
              </a:rPr>
              <a:t>writer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67280" y="443700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Myriad Web"/>
              </a:rPr>
              <a:t>He loves book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4720" y="765000"/>
            <a:ext cx="48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Myriad Web"/>
              </a:rPr>
              <a:t>He’s    Zheng        yuanji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672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62520" y="22860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411480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Myriad Web"/>
              </a:rPr>
              <a:t>He’s a </a:t>
            </a:r>
            <a:r>
              <a:rPr b="1" lang="en-US" sz="4400" spc="-1" strike="noStrike" u="sng">
                <a:solidFill>
                  <a:srgbClr val="cc00ff"/>
                </a:solidFill>
                <a:uFillTx/>
                <a:latin typeface="Myriad Web"/>
              </a:rPr>
              <a:t>film st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35268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Myriad Web"/>
              </a:rPr>
              <a:t>He’s Jackie Che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487692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Myriad Web"/>
              </a:rPr>
              <a:t>He’s a </a:t>
            </a:r>
            <a:r>
              <a:rPr b="1" lang="en-US" sz="4400" spc="-1" strike="noStrike" u="sng">
                <a:solidFill>
                  <a:srgbClr val="cc00ff"/>
                </a:solidFill>
                <a:uFillTx/>
                <a:latin typeface="Myriad Web"/>
              </a:rPr>
              <a:t>policeman </a:t>
            </a:r>
            <a:r>
              <a:rPr b="1" lang="en-US" sz="4400" spc="-1" strike="noStrike">
                <a:solidFill>
                  <a:srgbClr val="cc0099"/>
                </a:solidFill>
                <a:latin typeface="Myriad Web"/>
              </a:rPr>
              <a:t>in the fil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563868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Myriad Web"/>
              </a:rPr>
              <a:t>He likes fil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6477120" cy="4853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505320" y="5334120"/>
            <a:ext cx="2971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teacher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639960" cy="54100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038480" y="1523880"/>
            <a:ext cx="46483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Myriad Web"/>
              </a:rPr>
              <a:t>She’s SunW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38480" y="3048120"/>
            <a:ext cx="58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Myriad Web"/>
              </a:rPr>
              <a:t>She’s a </a:t>
            </a:r>
            <a:r>
              <a:rPr b="1" lang="en-US" sz="4400" spc="-1" strike="noStrike" u="sng">
                <a:solidFill>
                  <a:srgbClr val="cc00ff"/>
                </a:solidFill>
                <a:uFillTx/>
                <a:latin typeface="Myriad Web"/>
              </a:rPr>
              <a:t>footballer</a:t>
            </a:r>
            <a:r>
              <a:rPr b="1" lang="en-US" sz="4400" spc="-1" strike="noStrike">
                <a:solidFill>
                  <a:srgbClr val="cc0099"/>
                </a:solidFill>
                <a:latin typeface="Myriad Web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38480" y="434340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Myriad Web"/>
              </a:rPr>
              <a:t>She likes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2209680"/>
            <a:ext cx="892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What will you be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920" y="4267080"/>
            <a:ext cx="910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Maybe I’ll be a/an…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14400" y="60948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拓展问题：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781680" y="6018120"/>
            <a:ext cx="198144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3772080" y="3122640"/>
            <a:ext cx="4000320" cy="16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Goodby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600200" y="76320"/>
            <a:ext cx="5284800" cy="5410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3200400" y="5562720"/>
            <a:ext cx="28195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driver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rcRect l="0" t="0" r="0" b="6251"/>
          <a:stretch/>
        </p:blipFill>
        <p:spPr>
          <a:xfrm>
            <a:off x="990720" y="304920"/>
            <a:ext cx="4064040" cy="5715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5791320" y="2057400"/>
            <a:ext cx="2971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nurse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781680" y="6018120"/>
            <a:ext cx="198144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95480" y="990720"/>
            <a:ext cx="3360960" cy="3386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3429000" y="4800600"/>
            <a:ext cx="236232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doctor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948360" y="-1251000"/>
            <a:ext cx="194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Times New Roman"/>
              </a:rPr>
              <a:t>do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7380360"/>
            <a:ext cx="183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Times New Roman"/>
              </a:rPr>
              <a:t>teac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16040" y="1628640"/>
            <a:ext cx="22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Times New Roman"/>
              </a:rPr>
              <a:t>teac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948360" y="1628640"/>
            <a:ext cx="194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Times New Roman"/>
              </a:rPr>
              <a:t>do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3960" y="1052640"/>
            <a:ext cx="1941480" cy="2139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772160" y="1052640"/>
            <a:ext cx="1814400" cy="2212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749840" y="3819600"/>
            <a:ext cx="1836720" cy="2212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948360" y="-1251000"/>
            <a:ext cx="194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Times New Roman"/>
              </a:rPr>
              <a:t>dri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948360" y="4322880"/>
            <a:ext cx="194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Times New Roman"/>
              </a:rPr>
              <a:t>dri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453960" y="4046400"/>
            <a:ext cx="2136960" cy="1954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906640" y="7245360"/>
            <a:ext cx="18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Times New Roman"/>
              </a:rPr>
              <a:t>n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06640" y="4322880"/>
            <a:ext cx="145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Times New Roman"/>
              </a:rPr>
              <a:t>n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59259E-006 L 4.72222E-006 -1.19305 E">
                                      <p:cBhvr>
                                        <p:cTn id="36" dur="1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81481E-006 L 2.77778E-006 1.2074 E">
                                      <p:cBhvr>
                                        <p:cTn id="48" dur="1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59259E-006 L 4.72222E-006 -1.19305 E">
                                      <p:cBhvr>
                                        <p:cTn id="57" dur="1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81481E-006 L 2.77778E-006 1.2074 E">
                                      <p:cBhvr>
                                        <p:cTn id="69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4992840" cy="5790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5715000" y="1676520"/>
            <a:ext cx="2971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policeman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315200" cy="5715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191120" y="2362320"/>
            <a:ext cx="449568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film star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21320" y="533520"/>
            <a:ext cx="3741480" cy="5581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304920" y="2438280"/>
            <a:ext cx="32763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writer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dz</cp:lastModifiedBy>
  <dcterms:modified xsi:type="dcterms:W3CDTF">2012-06-14T03:56:08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